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3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3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3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9D44-F537-482E-8523-01B1F63BE1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2E26-54E9-4C31-8DDF-76D94326D228}" type="slidenum">
              <a:rPr b="0" lang="ru-RU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F13-79ED-426F-9260-B74A065C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F16-431C-4818-AE3D-930FFE07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BFC1-F2E1-4D18-9115-1CD4968E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677FF-4765-49A3-9508-08A561C4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4666F-6FB5-454B-81F2-9A34E2E6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1712D-7DBE-4858-8BAC-9FA733F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32246-084C-42CE-BBAC-78C513D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B036B-0E87-4FFA-A5E3-A5BD537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0361B-7419-4448-B27A-17420024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DF7BC-1698-4B2D-A3D1-D841C29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80950-7CDA-4061-8AF2-12BF6AF2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FD8CD-C33F-44B5-B4AA-37379B7E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5B4-4C47-49B7-9D88-DF0AD120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C95C-6A6A-47B4-B8AA-D5EA2E9D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577FF-6321-4909-8977-6E5CD5B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0D2AF-AC18-41E0-BC24-0267FDB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D7920-6D62-4E77-AE4F-D4046C8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1FD3E-8C2C-4902-8D3A-70B1737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50504-BF3F-48C2-9AC4-5B7CB26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1B25F-9B60-4AA2-A148-50A9A69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B552D-DBEA-4450-988F-761D30E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2F9B3-8224-43D4-938B-AA49454E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B5790-3EFF-44FA-B120-D828CE56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D06-A529-465E-B18F-119817DA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651EA-449E-4903-862F-306F5EB2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0E99-BB74-4B98-92FE-CDBB0073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2D8A4-1E53-4771-AF52-98EDD290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54315-89C7-4CBA-BBC8-E0605510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7A26F-6171-437F-AEE3-AD9D94A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75F2-A4A0-4704-90A6-A069362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6C3EC-4AAB-4497-96F6-63E881C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5C2C3-30D0-4A6F-948B-4D8ED497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C29B0-DB9D-4C01-A99B-155E898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B4B8C-9534-4BA8-8229-F61461D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698A-2C48-419F-97CD-901472A9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AF8C-4895-425C-930C-0484BCF9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18740-09F5-4A0F-A4C6-3D0322D9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23224-75CA-416A-98EB-319AB029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B9C7E-37FE-45CF-B932-D9C9CD85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A5962-4D40-4EED-ACCD-6FF2ECC7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2B7B5-CD45-4766-A08E-D33C47D0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F7BFF-4851-442B-811D-4F63A3B2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83DEC-5AAF-4ECD-B02F-BDD54F17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81CD4-46E7-4B0A-9583-32E9B29C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6D1D8-EBD9-4686-85FC-571DEEE8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2AD-85EB-4033-85DD-DBA027A6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3F824-B248-4B69-A169-6197616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CF1D7-6089-4148-98DB-22D6A913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40F5E-975C-4A69-AAB3-2679772D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8C743-E669-4C7E-ABDA-1BE5E28C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1C6B1-329C-4A6D-9464-8E2DCFA1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7AE3-2F5B-469F-B187-29AE4E9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A884-F55A-4A6A-8362-824A0623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16BD-D141-41DF-933D-41D54B72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E20C-5895-4548-BADC-F4788A0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094D-C98A-47EF-A72A-23DF4BD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6DA-1FB9-418F-AE66-C96244D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21C9-372C-4E3A-9C5C-F93B1031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4A7-DC3D-4B25-AAD9-A466F87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4024-52FA-4658-8340-FFB26593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83C6-4E98-4DA2-A48D-1D8FD97E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C69-E372-41C8-97C5-1878E804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CA27-9F1A-478E-8994-9CB66C5A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4280-D06B-4E2B-8334-25D68867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99EBB-7AD3-42C2-B117-EE4C7B74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4B59E-333A-4F9B-A6C9-E6CAA76C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2F81-8DBE-47BA-87B1-567DBAF2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097-6D98-47E0-B695-7569696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5D48-55E6-43AC-A6AD-C8675137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1B6A-B8E4-4F45-AC1C-0B0280D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05028-5D9E-4FA4-A8E7-8940521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2EABF-ED3F-4C42-9299-B2FA055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FE22-28D0-4817-891F-0964B5DF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D771F-0600-4A64-B31F-59EF3E5D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75E5-A653-46A7-AC19-BF29A1D5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ECCA-BDD8-4835-BDA1-77D15B7A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A7EF-261A-4D29-A9A8-ADF6BF50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5AB1-4086-4F71-BF05-DD984BF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1F9-EBDF-48F4-B08A-25CD04D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5029-61E9-4F87-AC6D-E6E312A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6920-BD17-4D2B-88E9-EE3768B0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A27DB-A7D8-4977-9848-585781C2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023AF-B5CF-45CE-9A76-A4D5305B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381D-8157-44B9-B4D4-CBC7C3C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44E1C-B77E-43D1-BE7C-CC3A00C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1AF0-BF53-4907-8F6B-0826773F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BD3A-114E-4EDA-9E16-A1772E87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FDD4-42B4-4730-A5ED-871F3175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06B9-2839-45D1-A8FA-966456FB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42A-7BC9-40E6-A8A4-06C2306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CB2C-0791-4F63-9105-D2048452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5CA8-CCAF-443F-9A2A-1528C01D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0D86-E9DF-4B0E-AE24-78A40B3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A3FA-6961-48C4-B04E-490ED1C5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A59D-42B5-495C-9AEE-03F84CD7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106F8-B8EA-4CF4-81F9-1182FE3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85C57-6915-4B96-BD04-A920A9C4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D02C-F312-4342-89F3-56C5E41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3BA64-7D31-4E9F-B45E-A03A45C2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CD55-4EE4-464E-B120-C1ED126B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28F-9461-484A-9402-876EC83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5CF53-E429-4568-B4A4-842882A5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874E-F239-4E80-9255-3AE0432B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5486-082A-434B-9278-DC7B9F4D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092C-2151-473B-ACAD-E8FF9A46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87667-1387-4752-8425-E86B595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FB6CE-92CA-49FD-9D79-005D2231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1B253-EEA9-4BC9-AB71-B711DBAD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A327-A811-4B3E-AC10-3CECD8E1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BFE7-142D-45C4-8598-CD05FE36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BCC4-5319-47D8-8796-23D4F877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0EC-C579-4674-9EBF-53FEDEC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9D29-21AD-4DA4-858D-BD87EDE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8BA1C-BEF6-4D34-9916-EF5E6EAC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89DD-EB67-4E08-8766-B21416EC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EA16-AA58-4610-BC21-5725F803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A3DD-7649-433D-831C-B766DCE8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A89E-DFC6-4F46-AEFF-053B304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E0D5-113C-42DA-B4FB-2734D96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364E-9626-42AC-B030-BA7FD884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4F36-4D00-466D-B3C7-8AC682B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A85BD-1EC2-4AFE-9B9D-B4D36F54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903-67E1-461F-AA50-8BA2C8A7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33D8-8E1D-4864-B137-5D3B326C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CBA7A-4FF6-4942-B91D-4A60C08C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7FDB6-6FC2-49CC-B8AB-A47AEFA2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1EB7-439C-4C23-9AE5-198F3829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C0663-072F-4653-8601-B2706532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B09D-FE58-4755-9585-0679B67C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0B15F-3CCD-4542-823C-2249FD0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A5BD8-43A1-4375-90CD-424B245D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5CDA-E72E-4F9D-B9F7-3860D941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4ED5-E3AA-4CCF-8C4F-16430CC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56E-8707-44EF-8408-2BA8FC6A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0AC9-032A-46AA-ABD6-922A54B3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9867C-B458-4160-AF42-CF28812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5167-FC05-46AD-B0B1-E2CE6F68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A48AA-6E2F-4DD4-957B-612DDF7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0640D-A59E-4EE5-A633-99B08423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BD30A-FE7C-4404-969B-D5A034FA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6B72-0BA4-4A66-8D22-3DCBEFB5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331FF-84B2-4F14-A77A-F42EEB76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9FCD-DD9E-4D57-A1D9-5C2F6764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7DB52-00DF-4423-A7B1-72CC65A8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1CCB-F891-4136-A18C-75B2066DFA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992160" y="762120"/>
            <a:ext cx="8151840" cy="609588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1077840" y="849240"/>
            <a:ext cx="7996320" cy="5940360"/>
          </a:xfrm>
          <a:prstGeom prst="rect">
            <a:avLst/>
          </a:prstGeom>
          <a:solidFill>
            <a:srgbClr val="eaf1fa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0" y="4921200"/>
            <a:ext cx="990720" cy="196056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" name="Rectangle 17"/>
          <p:cNvSpPr/>
          <p:nvPr/>
        </p:nvSpPr>
        <p:spPr>
          <a:xfrm>
            <a:off x="0" y="4824360"/>
            <a:ext cx="990720" cy="44640"/>
          </a:xfrm>
          <a:prstGeom prst="rect">
            <a:avLst/>
          </a:pr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" name="Line 64"/>
          <p:cNvSpPr/>
          <p:nvPr/>
        </p:nvSpPr>
        <p:spPr>
          <a:xfrm>
            <a:off x="4680" y="45864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" name="Line 6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Line 68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" name="Line 69"/>
          <p:cNvSpPr/>
          <p:nvPr/>
        </p:nvSpPr>
        <p:spPr>
          <a:xfrm>
            <a:off x="4680" y="50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" name="Line 70"/>
          <p:cNvSpPr/>
          <p:nvPr/>
        </p:nvSpPr>
        <p:spPr>
          <a:xfrm>
            <a:off x="4680" y="27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" name="Line 71"/>
          <p:cNvSpPr/>
          <p:nvPr/>
        </p:nvSpPr>
        <p:spPr>
          <a:xfrm>
            <a:off x="4680" y="32400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Line 73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Line 75"/>
          <p:cNvSpPr/>
          <p:nvPr/>
        </p:nvSpPr>
        <p:spPr>
          <a:xfrm>
            <a:off x="4680" y="414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Line 77"/>
          <p:cNvSpPr/>
          <p:nvPr/>
        </p:nvSpPr>
        <p:spPr>
          <a:xfrm>
            <a:off x="4680" y="54936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" name="Line 78"/>
          <p:cNvSpPr/>
          <p:nvPr/>
        </p:nvSpPr>
        <p:spPr>
          <a:xfrm>
            <a:off x="4680" y="368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" name="Line 79"/>
          <p:cNvSpPr/>
          <p:nvPr/>
        </p:nvSpPr>
        <p:spPr>
          <a:xfrm>
            <a:off x="4680" y="233280"/>
            <a:ext cx="15876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Line 80"/>
          <p:cNvSpPr/>
          <p:nvPr/>
        </p:nvSpPr>
        <p:spPr>
          <a:xfrm>
            <a:off x="880920" y="45864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Line 81"/>
          <p:cNvSpPr/>
          <p:nvPr/>
        </p:nvSpPr>
        <p:spPr>
          <a:xfrm>
            <a:off x="880920" y="50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" name="Line 82"/>
          <p:cNvSpPr/>
          <p:nvPr/>
        </p:nvSpPr>
        <p:spPr>
          <a:xfrm>
            <a:off x="880920" y="27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" name="Line 83"/>
          <p:cNvSpPr/>
          <p:nvPr/>
        </p:nvSpPr>
        <p:spPr>
          <a:xfrm>
            <a:off x="880920" y="32400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Line 85"/>
          <p:cNvSpPr/>
          <p:nvPr/>
        </p:nvSpPr>
        <p:spPr>
          <a:xfrm>
            <a:off x="880920" y="414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Line 86"/>
          <p:cNvSpPr/>
          <p:nvPr/>
        </p:nvSpPr>
        <p:spPr>
          <a:xfrm>
            <a:off x="880920" y="54936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" name="Line 87"/>
          <p:cNvSpPr/>
          <p:nvPr/>
        </p:nvSpPr>
        <p:spPr>
          <a:xfrm>
            <a:off x="880920" y="368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" name="Line 88"/>
          <p:cNvSpPr/>
          <p:nvPr/>
        </p:nvSpPr>
        <p:spPr>
          <a:xfrm>
            <a:off x="880920" y="233280"/>
            <a:ext cx="8277480" cy="0"/>
          </a:xfrm>
          <a:prstGeom prst="line">
            <a:avLst/>
          </a:prstGeom>
          <a:ln w="3240">
            <a:solidFill>
              <a:srgbClr val="aec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65CC-07B1-4970-9CF4-09FC4D21D21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186-C000-430E-8C59-1B081FF1AF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DCC-9F01-4A9A-B6C3-264EA96CC9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59B8-DA5D-4C9D-89C9-D9E555AB5A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97C-E975-4B14-8B0A-A8EC8EC390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70D0-1924-45F7-B4CB-E266CA0BEB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1F51-7D74-4773-8A28-E37A1944FD1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12F8-546D-4449-B226-D7BD4E094D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5240-A39D-4443-9CBB-4985A5BF99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593-476B-418C-ADD7-462E84AAA3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EB8F-C9D5-4AC5-AF01-A153635240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61720" y="836280"/>
            <a:ext cx="88484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ЗЕНТАЦИЯ ПРОЕКТ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______________________________________________________________________________________________________________________»</a:t>
            </a:r>
            <a:br>
              <a:rPr sz="2800"/>
            </a:b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9" name="Прямоугольник 2"/>
          <p:cNvSpPr/>
          <p:nvPr/>
        </p:nvSpPr>
        <p:spPr>
          <a:xfrm>
            <a:off x="887400" y="465300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втор(ы):  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____________________________________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589C-24E7-4DA0-AC85-4DA00159EB6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9280" y="836640"/>
          <a:ext cx="8856720" cy="4680000"/>
        </p:xfrm>
        <a:graphic>
          <a:graphicData uri="http://schemas.openxmlformats.org/drawingml/2006/table">
            <a:tbl>
              <a:tblPr/>
              <a:tblGrid>
                <a:gridCol w="435240"/>
                <a:gridCol w="2903400"/>
                <a:gridCol w="2614680"/>
                <a:gridCol w="2903400"/>
              </a:tblGrid>
              <a:tr h="744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Роль в проект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лж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Куратор проекта (проректор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сполнитель </a:t>
                      </a:r>
                      <a:r>
                        <a:rPr b="0" lang="en-US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дрядчи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Экспер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КОМАНДА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43EB-5C80-4D65-9351-8BA9E041BAB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61" name="Таблица 2" descr=""/>
          <p:cNvPicPr/>
          <p:nvPr/>
        </p:nvPicPr>
        <p:blipFill>
          <a:blip r:embed="rId1"/>
          <a:stretch/>
        </p:blipFill>
        <p:spPr>
          <a:xfrm>
            <a:off x="249120" y="669960"/>
            <a:ext cx="8718840" cy="54561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1258920" y="90792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Команда проекта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3" name="Прямая соединительная линия 5"/>
          <p:cNvSpPr/>
          <p:nvPr/>
        </p:nvSpPr>
        <p:spPr>
          <a:xfrm>
            <a:off x="395280" y="738360"/>
            <a:ext cx="2232000" cy="1611000"/>
          </a:xfrm>
          <a:prstGeom prst="line">
            <a:avLst/>
          </a:prstGeom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11560" y="1844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34"/>
                </a:solidFill>
                <a:latin typeface="Arial"/>
              </a:rPr>
              <a:t>Работы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5" name="Прямоугольник 8"/>
          <p:cNvSpPr/>
          <p:nvPr/>
        </p:nvSpPr>
        <p:spPr>
          <a:xfrm>
            <a:off x="324000" y="609588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Обозначения: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О- 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ответственный,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выполня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И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информир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С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соглас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утверждает;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К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контролирует; </a:t>
            </a:r>
            <a:r>
              <a:rPr b="1" lang="ru-RU" sz="1400" spc="-1" strike="noStrike">
                <a:solidFill>
                  <a:srgbClr val="292934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292934"/>
                </a:solidFill>
                <a:latin typeface="Arial"/>
              </a:rPr>
              <a:t> – осуществляет мониторинг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МАТРИЦА ОТВЕТСТВЕН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6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A77-B36F-41D9-8D67-454AED6015D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писание ситуации «Как Есть»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32" name="TextBox 4"/>
          <p:cNvSpPr/>
          <p:nvPr/>
        </p:nvSpPr>
        <p:spPr>
          <a:xfrm>
            <a:off x="179280" y="765000"/>
            <a:ext cx="838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Тезисное описание  и параметров в соответствующей области до начала реализации проекта, желательно дополнительное размещение изображений, графиков и таблиц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3" name="TextBox 1"/>
          <p:cNvSpPr/>
          <p:nvPr/>
        </p:nvSpPr>
        <p:spPr>
          <a:xfrm>
            <a:off x="39528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305D-C9B3-4B91-B793-0CDB156D60B6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287280" y="765000"/>
            <a:ext cx="85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Arial"/>
              </a:rPr>
              <a:t>Тезисное описание измененных параметров и ситуации в соответствующей области после окончания проекта, желательно дополнительное размещение изображений, графиков и таблиц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39528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539640" y="13320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писание ситуации «Как Будет»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СНОВАНИЯ ДЛЯ ОТКРЫТИЯ ПРОЕКТА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468360" y="692280"/>
          <a:ext cx="8207280" cy="5657760"/>
        </p:xfrm>
        <a:graphic>
          <a:graphicData uri="http://schemas.openxmlformats.org/drawingml/2006/table">
            <a:tbl>
              <a:tblPr/>
              <a:tblGrid>
                <a:gridCol w="1800000"/>
                <a:gridCol w="6407280"/>
              </a:tblGrid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1609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правление Стратегии развития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звание и № пункта в Стратеги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1368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Формальное основание для открытия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квизиты и формулировка поручения, приказа, ссылка на нормативный акт и др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бщие сведения о проект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нициатор: ФИО, должность, контактные данны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 составления: ______________________________________________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34"/>
                      </a:solidFill>
                    </a:lnL>
                    <a:lnR w="1368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1368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Номер слайда 1"/>
          <p:cNvSpPr/>
          <p:nvPr/>
        </p:nvSpPr>
        <p:spPr>
          <a:xfrm>
            <a:off x="7993080" y="54000"/>
            <a:ext cx="115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AA97-A2CD-4963-8ED2-E19171BDFB8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11BC-890C-42D3-BCD9-713066F90E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79280" y="692280"/>
          <a:ext cx="8817120" cy="5906880"/>
        </p:xfrm>
        <a:graphic>
          <a:graphicData uri="http://schemas.openxmlformats.org/drawingml/2006/table">
            <a:tbl>
              <a:tblPr/>
              <a:tblGrid>
                <a:gridCol w="1790640"/>
                <a:gridCol w="7026480"/>
              </a:tblGrid>
              <a:tr h="1944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Цель, которую необходимо достичь по факту окончания проекта.  Цель направляется на пользователей проекта и должна быть: конкретная и понятная; – измеримая (содержать цифры); достижимая; в зоне ответственности и влияния команды проекта на 100%; определена на указанную в цели дату окончания проекта.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Имущественный либо неимущественный результат, который должен быть достигнут по факту достижения цели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Требования к результату проекта, которые будут учитываться при определении достижения данных результатов. Определяют качественные характеристики результата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265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292934"/>
                          </a:solidFill>
                          <a:latin typeface="Arial"/>
                          <a:ea typeface="Arial"/>
                        </a:rPr>
                        <a:t>Круг потребителей (область применения) результатов проекта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ЦЕЛИ И РЕЗУЛЬТА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324000" y="907920"/>
          <a:ext cx="8712000" cy="5185080"/>
        </p:xfrm>
        <a:graphic>
          <a:graphicData uri="http://schemas.openxmlformats.org/drawingml/2006/table">
            <a:tbl>
              <a:tblPr/>
              <a:tblGrid>
                <a:gridCol w="457200"/>
                <a:gridCol w="6254640"/>
                <a:gridCol w="1050840"/>
                <a:gridCol w="949320"/>
              </a:tblGrid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оциальн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хват сотрудников (студентов) социальными благами за 1 год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Участие сотрудников (студентов) в мероприятиях проекта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учно-исследовательская (учебная) 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студентов, охваченных образовательной программо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планируемых патентов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Количество научных статей (материалов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3"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Экономическая эффективность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Годовой объем выручк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Годовой объем прибыли *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3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ентабельность инвестиций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Срок окупаемости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бъем инвестиций в основной капитал ВУЗа в рамках проект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2000" rIns="36000" tIns="36000" bIns="36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ные показатели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72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72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Прямоугольник 6"/>
          <p:cNvSpPr/>
          <p:nvPr/>
        </p:nvSpPr>
        <p:spPr>
          <a:xfrm>
            <a:off x="1332000" y="6459480"/>
            <a:ext cx="69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34"/>
                </a:solidFill>
                <a:latin typeface="Arial"/>
              </a:rPr>
              <a:t>*  Рассчитывается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ПОКАЗАТЕЛИ ЭФФЕКТИВНОСТИ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7E15-0B59-45FF-A1C3-2591F634D35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08000" y="836640"/>
          <a:ext cx="8785080" cy="5483160"/>
        </p:xfrm>
        <a:graphic>
          <a:graphicData uri="http://schemas.openxmlformats.org/drawingml/2006/table">
            <a:tbl>
              <a:tblPr/>
              <a:tblGrid>
                <a:gridCol w="439560"/>
                <a:gridCol w="1511280"/>
                <a:gridCol w="895320"/>
                <a:gridCol w="976320"/>
                <a:gridCol w="890640"/>
                <a:gridCol w="254160"/>
                <a:gridCol w="255600"/>
                <a:gridCol w="253800"/>
                <a:gridCol w="254160"/>
                <a:gridCol w="255600"/>
                <a:gridCol w="253800"/>
                <a:gridCol w="254160"/>
                <a:gridCol w="254160"/>
                <a:gridCol w="253800"/>
                <a:gridCol w="255600"/>
                <a:gridCol w="254160"/>
                <a:gridCol w="255600"/>
                <a:gridCol w="253800"/>
                <a:gridCol w="254160"/>
                <a:gridCol w="255600"/>
                <a:gridCol w="253800"/>
              </a:tblGrid>
              <a:tr h="599400"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лит-ть, дн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чал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ата окончания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 год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5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6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7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8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9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1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2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3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04</a:t>
                      </a:r>
                      <a:endParaRPr b="0" lang="en-US" sz="9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42012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TextBox 5"/>
          <p:cNvSpPr/>
          <p:nvPr/>
        </p:nvSpPr>
        <p:spPr>
          <a:xfrm>
            <a:off x="1258920" y="631980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92934"/>
                </a:solidFill>
                <a:latin typeface="Arial"/>
              </a:rPr>
              <a:t>* - завершенные блоки работ  закрашиваются зеленым цветом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ОСНОВНЫЕ БЛОКИ РАБО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F599-B221-4D98-9396-4AD0223817B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250920" y="920880"/>
          <a:ext cx="8642160" cy="4740120"/>
        </p:xfrm>
        <a:graphic>
          <a:graphicData uri="http://schemas.openxmlformats.org/drawingml/2006/table">
            <a:tbl>
              <a:tblPr/>
              <a:tblGrid>
                <a:gridCol w="444240"/>
                <a:gridCol w="3635640"/>
                <a:gridCol w="960480"/>
                <a:gridCol w="1180800"/>
                <a:gridCol w="739800"/>
                <a:gridCol w="930240"/>
                <a:gridCol w="75096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з средств БелГУ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grid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ривлеченные средства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небюджет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Указываются наименования основных блоков работ проекта,  (повторяются с предыдущего слайда)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15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3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БЮДЖЕТ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1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CCCA-0238-4F86-A8F4-B4652EDCF23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39640" y="836640"/>
          <a:ext cx="8496360" cy="5499000"/>
        </p:xfrm>
        <a:graphic>
          <a:graphicData uri="http://schemas.openxmlformats.org/drawingml/2006/table">
            <a:tbl>
              <a:tblPr/>
              <a:tblGrid>
                <a:gridCol w="347760"/>
                <a:gridCol w="1671480"/>
                <a:gridCol w="1581480"/>
                <a:gridCol w="2876400"/>
                <a:gridCol w="201924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Риск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жидаемые последствия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Мероприятия по предупреждению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Действия в случае наступления риска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писание события, которое может оказать влияние на реализацию проекта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Описание последствий для проекта, возникших в результате наступления события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еречень мероприятий, направленных на предотвращение наступления события (в дальнейшем данные мероприятия должны найти отражение в контрольных событиях, основных блоках работ)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Перечень мероприятий, предпринимаемых в случае наступления события</a:t>
                      </a:r>
                      <a:endParaRPr b="0" lang="en-US" sz="1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7928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92934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0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1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marL="36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292934"/>
                      </a:solidFill>
                    </a:lnL>
                    <a:lnR w="5760">
                      <a:solidFill>
                        <a:srgbClr val="292934"/>
                      </a:solidFill>
                    </a:lnR>
                    <a:lnT w="5760">
                      <a:solidFill>
                        <a:srgbClr val="292934"/>
                      </a:solidFill>
                    </a:lnT>
                    <a:lnB w="5760">
                      <a:solidFill>
                        <a:srgbClr val="2929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Заголовок 1"/>
          <p:cNvSpPr/>
          <p:nvPr/>
        </p:nvSpPr>
        <p:spPr>
          <a:xfrm>
            <a:off x="324000" y="44280"/>
            <a:ext cx="882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533c"/>
                </a:solidFill>
                <a:latin typeface="Arial"/>
              </a:rPr>
              <a:t>РИСКИ  ПРОЕКТА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4:03:02Z</dcterms:created>
  <dc:creator>Admin</dc:creator>
  <dc:description/>
  <dc:language>en-US</dc:language>
  <cp:lastModifiedBy>Vadim</cp:lastModifiedBy>
  <cp:lastPrinted>2001-08-23T14:02:36Z</cp:lastPrinted>
  <dcterms:modified xsi:type="dcterms:W3CDTF">2012-07-02T06:50:34Z</dcterms:modified>
  <cp:revision>1675</cp:revision>
  <dc:subject/>
  <dc:title>Презентация PowerPoint</dc:title>
</cp:coreProperties>
</file>